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84E-834C-4027-97D5-08C74D88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FB2-C10E-47AE-B331-58AAFC5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E16-BAC6-4610-9954-A2EE504C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49B-CDE4-4956-8E42-DB1512AC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66C-06CB-421E-80E8-A05C603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B64-790A-4A3E-BFD4-85DA3F0E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7AA-6DA0-4251-AEE3-3785DE1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8AC-354C-4522-8A5C-8AFA0D44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2FE-A5F0-4D0C-BC24-A13B64F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B55-8D5C-40C3-B0ED-FFC2525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336-5169-47ED-89C4-BE0296B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81B-9CE2-4C3A-ABC9-DFEE63A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B99-9D41-4482-B1E7-94AD117C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uardian.co.uk/music/downloads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uardian.co.uk/music/downloa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atest new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lease read the articles o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rill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Do you think their new album is really “free”? Read the first blog entry!)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rat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9:00:29Z</dcterms:created>
  <dc:creator>administrator</dc:creator>
  <dc:description/>
  <dc:language>en-US</dc:language>
  <cp:lastModifiedBy>maninder singh</cp:lastModifiedBy>
  <dcterms:modified xsi:type="dcterms:W3CDTF">2010-12-13T17:25:22Z</dcterms:modified>
  <cp:revision>2</cp:revision>
  <dc:subject/>
  <dc:title>http://www.guardian.co.uk/music/downloads </dc:title>
</cp:coreProperties>
</file>